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51A85-79C6-498D-895E-0F282F2327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292C-AA42-45F5-A0E6-EE43C477564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7370-EA40-4288-8639-3EAFEDBDF48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A37A8-1214-4393-B46F-2D2B27528DA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2C608-8CC4-4650-8232-022471A47C2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2FCC-0CE3-4643-8335-D6FCA02ED72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63F4-21FF-4E99-AF4E-774C6D77B33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91E7-EFAC-43E8-8A74-A7799A8B18E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5D68-3FE5-4F77-A992-B1F53344F7B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71018-18C8-4849-837C-00A3F050B05D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0D05C-B413-474C-BFC4-A5E568E6261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C48E-F618-4F58-B405-17459F48ADA3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394E7-7242-4B64-B410-986C62C57756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7D52-65F4-4A87-9225-A89DA2D56CAF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81D08-F57C-4044-83FA-626D9F92E8F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9CF5-0992-4E7F-89B5-354C142DC698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FAA6E-D45D-4EE0-83EA-BF9C5E975309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54937-8022-4206-9957-77E74077333E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3997-00EA-4F7C-95C7-25C6F43404A2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EB65-2920-4860-B422-5FAF6AD10631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A055-8400-4FAD-A588-FFB970196EB4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7618B-3286-4363-9FCE-2DB015C79234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5F52-AF5E-4348-BB5A-578EF94B3691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293B-E63F-4021-959B-07AEEBFBD679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3919-239C-40A5-8334-36BCBADA4AB2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98A7-B610-40F5-BED5-86EA10D3CD12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D5199-65AD-4A47-9E69-71C7BEFC1A5F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B3CB-4AE0-4C8E-AD21-ADBF0314D3D4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D7C78-C1BA-4BB6-8C8E-873CDDE87585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C0D2-C5B9-4651-B66D-FECFEE173D37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2D706-CB0C-4000-A9FF-ACC197E08B81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524AA-24CB-4D88-B364-223BD30E796E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AC52-B63C-4CBF-B62A-3033EE0A80C5}" type="slidenum">
              <a:rPr b="0" lang="sr-Latn-C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77DFB-B96B-41CD-BBCB-197C1F700CBA}" type="slidenum">
              <a:rPr b="0" lang="en-US" sz="13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C2D36-6132-428C-8B5E-946573C5F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CCD-B51F-49E6-8945-3FC68D14F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022-10AD-44F7-A00D-0C3C2B483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E09C-A8A3-4282-9ED8-E8FA3BB08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2688-2934-4B58-8A84-16CACA5E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5EAD-9A10-4299-9E2A-DA986B5E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2290-82F0-4801-99BA-2D819DAA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4A90-ABC5-4117-B6E9-2D507CB8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5263-87CC-492D-B019-742CFF8D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CD79-3808-45D5-A047-29E6AB3C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2FF1-40CF-4EE9-9507-DA04DD7C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0BA-6C79-4E94-B4E2-86273B84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80D97-1FA4-491A-A245-5D09033A9B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428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ТЕРМОХЕМИЈА</a:t>
            </a: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нтропија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,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Слободна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1" lang="sr-CS" sz="40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en-US" sz="40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ubtitle 2"/>
          <p:cNvSpPr/>
          <p:nvPr/>
        </p:nvSpPr>
        <p:spPr>
          <a:xfrm>
            <a:off x="1371600" y="471492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7674120" y="6458040"/>
            <a:ext cx="145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6. 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  <a:ea typeface="Arial"/>
              </a:rPr>
              <a:t>н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ubtitle 2"/>
          <p:cNvSpPr/>
          <p:nvPr/>
        </p:nvSpPr>
        <p:spPr>
          <a:xfrm>
            <a:off x="1619280" y="4365720"/>
            <a:ext cx="64008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Доц. др Снежана Јовановић Ст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  <a:ea typeface="Arial"/>
              </a:rPr>
              <a:t>2023/24.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468360" y="981000"/>
            <a:ext cx="8280360" cy="53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купна промена ентропије током дисперзије енергије при преносу топлоте  са топлијег на хладније тело ће бит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укупно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sr-R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топлог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sr-R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хладног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а укупне ентропије је већа од нуле, значи да при овој спонтаној промени ентропија расте. Без обзира колике су вредности количине пренете толоте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или колике су вредности температуре,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oplo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,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T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ladnog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укупна промена ентропије мора бити већа од нул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3"/>
          <p:cNvSpPr/>
          <p:nvPr/>
        </p:nvSpPr>
        <p:spPr>
          <a:xfrm>
            <a:off x="250920" y="1052640"/>
            <a:ext cx="8497800" cy="48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ло које је топлије је у термодинамичком смислу СИСТЕМ, а хладније тело на које је пренета топлота је уствари ОКРУЖУЈУЋА СРЕДИНА, тако да ће укупна промена ентроплиј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 општем случају бити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укупно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sr-R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систем</a:t>
            </a:r>
            <a:r>
              <a:rPr b="1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+ 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1" lang="sr-R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окружење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&gt;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 &gt; 0,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 спонтане (иреверзибилне) проце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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=</a:t>
            </a:r>
            <a:r>
              <a:rPr b="1" lang="sr-Latn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0,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за систем који се налази у равнотеж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3"/>
          <p:cNvSpPr/>
          <p:nvPr/>
        </p:nvSpPr>
        <p:spPr>
          <a:xfrm>
            <a:off x="395280" y="692280"/>
            <a:ext cx="856944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руги закон термодинамике говори о правцу у коме ће се одвијати неки процес.  Други закон термодинамике се може изразити на неколико начина, као што су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тропија изолованог система има тенденцију да раст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олота неће спонтано да се пренесе са хладнијег на топлије т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е природне процесе увек прати пораст ентропије система и његовог окруж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зрок спонтане појаве је тенденција система да без додатног рада диспергује енергију  или материју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324000" y="1197000"/>
            <a:ext cx="8208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о најопштијој дефиницији ентропија је термодинамичка величина која представља меру уређености неког систем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Већи степен уређености означава мању ентропију и обрнуто већи степен неуређености одговара већој вредности ентропиј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d:\chapt20\color_art_library\20_05.jpg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36432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1356840"/>
            <a:ext cx="542916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а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троп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еч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а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ећ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троп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чврс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027" descr="d:\chapt20\color_art_library\20_06.jpg"/>
          <p:cNvPicPr/>
          <p:nvPr/>
        </p:nvPicPr>
        <p:blipFill>
          <a:blip r:embed="rId2"/>
          <a:stretch/>
        </p:blipFill>
        <p:spPr>
          <a:xfrm>
            <a:off x="3357720" y="3165480"/>
            <a:ext cx="2000160" cy="3692520"/>
          </a:xfrm>
          <a:prstGeom prst="rect">
            <a:avLst/>
          </a:prstGeom>
          <a:ln w="0">
            <a:noFill/>
          </a:ln>
        </p:spPr>
      </p:pic>
      <p:sp>
        <p:nvSpPr>
          <p:cNvPr id="110" name="Right Arrow 6"/>
          <p:cNvSpPr/>
          <p:nvPr/>
        </p:nvSpPr>
        <p:spPr>
          <a:xfrm>
            <a:off x="5072040" y="1071720"/>
            <a:ext cx="857160" cy="92844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3571920"/>
            <a:ext cx="307188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шање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чн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астварање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чврстог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нтропиј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ас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ight Arrow 8"/>
          <p:cNvSpPr/>
          <p:nvPr/>
        </p:nvSpPr>
        <p:spPr>
          <a:xfrm>
            <a:off x="2786040" y="4429080"/>
            <a:ext cx="857160" cy="9288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d:\chapt20\color_art_library\20_08.jpg"/>
          <p:cNvPicPr/>
          <p:nvPr/>
        </p:nvPicPr>
        <p:blipFill>
          <a:blip r:embed="rId3"/>
          <a:stretch/>
        </p:blipFill>
        <p:spPr>
          <a:xfrm>
            <a:off x="7000920" y="4695840"/>
            <a:ext cx="2143080" cy="216216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10"/>
          <p:cNvSpPr/>
          <p:nvPr/>
        </p:nvSpPr>
        <p:spPr>
          <a:xfrm>
            <a:off x="5214960" y="3571920"/>
            <a:ext cx="3929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Ентропиј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опа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ка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гас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раствар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теч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Bent-Up Arrow 11"/>
          <p:cNvSpPr/>
          <p:nvPr/>
        </p:nvSpPr>
        <p:spPr>
          <a:xfrm rot="5400000">
            <a:off x="6286680" y="4929120"/>
            <a:ext cx="714240" cy="1000080"/>
          </a:xfrm>
          <a:custGeom>
            <a:avLst/>
            <a:gdLst/>
            <a:ahLst/>
            <a:rect l="l" t="t" r="r" b="b"/>
            <a:pathLst>
              <a:path w="714375" h="1000125">
                <a:moveTo>
                  <a:pt x="0" y="821531"/>
                </a:moveTo>
                <a:lnTo>
                  <a:pt x="446484" y="821531"/>
                </a:lnTo>
                <a:lnTo>
                  <a:pt x="446484" y="178594"/>
                </a:lnTo>
                <a:lnTo>
                  <a:pt x="357188" y="178594"/>
                </a:lnTo>
                <a:lnTo>
                  <a:pt x="535781" y="0"/>
                </a:lnTo>
                <a:lnTo>
                  <a:pt x="714375" y="178594"/>
                </a:lnTo>
                <a:lnTo>
                  <a:pt x="625078" y="178594"/>
                </a:lnTo>
                <a:lnTo>
                  <a:pt x="625078" y="1000125"/>
                </a:lnTo>
                <a:lnTo>
                  <a:pt x="0" y="1000125"/>
                </a:lnTo>
                <a:lnTo>
                  <a:pt x="0" y="821531"/>
                </a:ln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285840" y="0"/>
            <a:ext cx="578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Ентропиј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представљ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мер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уређеност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0" y="571680"/>
            <a:ext cx="91440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кој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им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већ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степен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неуређеност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им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већу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ентропиј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еђе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врст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троп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Гасов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еђе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а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троп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меш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ређен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чист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пстан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ма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ећ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тропиј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ишој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емператур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Концепт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Ентроп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Picture 7" descr="FG17_04b"/>
          <p:cNvPicPr/>
          <p:nvPr/>
        </p:nvPicPr>
        <p:blipFill>
          <a:blip r:embed="rId1"/>
          <a:stretch/>
        </p:blipFill>
        <p:spPr>
          <a:xfrm>
            <a:off x="6215040" y="5357880"/>
            <a:ext cx="2928960" cy="15001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6"/>
          <p:cNvSpPr/>
          <p:nvPr/>
        </p:nvSpPr>
        <p:spPr>
          <a:xfrm>
            <a:off x="0" y="6072120"/>
            <a:ext cx="5940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Порас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ентропи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спаравањ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Box 3"/>
          <p:cNvSpPr/>
          <p:nvPr/>
        </p:nvSpPr>
        <p:spPr>
          <a:xfrm>
            <a:off x="428760" y="1071720"/>
            <a:ext cx="8358120" cy="59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нтропија зависи само од почетног и крајњег стања система и не зависи од пута којим се процес одвијао и зато је као и унутрашња енергија и енталпија функција стањ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Разлика ентропије између два стања је промена ентроп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(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inal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–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1" i="1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ini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7724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Ентропија је функција стања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714240"/>
            <a:ext cx="91440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 општем случају ентропија расте у следећим процес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љењу чврстих тела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 = 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– 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&gt; 0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je 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&gt; 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спаравању чврстих и течних супстанци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0000"/>
                </a:solidFill>
                <a:latin typeface="Symbol"/>
                <a:ea typeface="Symbol"/>
              </a:rPr>
              <a:t>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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 = 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– 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(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ил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S</a:t>
            </a:r>
            <a:r>
              <a:rPr b="1" lang="en-US" sz="2800" spc="-1" strike="noStrike" baseline="-25000">
                <a:solidFill>
                  <a:srgbClr val="ff0000"/>
                </a:solidFill>
                <a:latin typeface="Arial"/>
              </a:rPr>
              <a:t>l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) &gt;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je 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стварању чврстих и течних супстанци у растварачи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 хемијским реакцијама у којима се производи већи број гасних молеку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о се супстанце загрев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116920" cy="100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тропиј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мењ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температуром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7120" y="1285920"/>
            <a:ext cx="878688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тропија се скоковито мења на тачки топљења или тачки кључања супстан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троп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 (g) je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натно већа од ентроп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g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општем случају ентропија је већа ако молекул има већи број атома из којих је изграђе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тропија зависи од количине супстан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3"/>
          <p:cNvSpPr/>
          <p:nvPr/>
        </p:nvSpPr>
        <p:spPr>
          <a:xfrm>
            <a:off x="285840" y="0"/>
            <a:ext cx="885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а ентропије супстанце је једнака количнику енергије која се пренесе  реверзибилно као топлота и температуре на којој се пренос догоди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5"/>
          <p:cNvSpPr/>
          <p:nvPr/>
        </p:nvSpPr>
        <p:spPr>
          <a:xfrm>
            <a:off x="500040" y="3571920"/>
            <a:ext cx="8643960" cy="338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руги закон термодинамик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тропија у изолованом систему има тенденцију да раст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рећ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термодинамик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троп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ис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дел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ристал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пстанц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псолут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у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0 </a:t>
            </a:r>
            <a:r>
              <a:rPr b="0" i="1" lang="sr-CS" sz="2800" spc="-1" strike="noStrike">
                <a:solidFill>
                  <a:srgbClr val="0000ff"/>
                </a:solidFill>
                <a:latin typeface="Arial"/>
              </a:rPr>
              <a:t>К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ff"/>
                </a:solidFill>
                <a:latin typeface="Arial"/>
              </a:rPr>
              <a:t>имати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ff"/>
                </a:solidFill>
                <a:latin typeface="Arial"/>
              </a:rPr>
              <a:t>вредност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ff"/>
                </a:solidFill>
                <a:latin typeface="Arial"/>
              </a:rPr>
              <a:t>нула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1785960" y="171468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 = q</a:t>
            </a:r>
            <a:r>
              <a:rPr b="0" lang="en-US" sz="3200" spc="-1" strike="noStrike" baseline="-18000">
                <a:solidFill>
                  <a:srgbClr val="000000"/>
                </a:solidFill>
                <a:latin typeface="Arial"/>
                <a:ea typeface="Arial"/>
              </a:rPr>
              <a:t>rev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/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428760" y="2500200"/>
            <a:ext cx="828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единиц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за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ентропију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 :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К, или за моларну ентропију Ј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/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К</a:t>
            </a:r>
            <a:r>
              <a:rPr b="1" lang="sr-Latn-CS" sz="2800" spc="-1" strike="noStrike">
                <a:solidFill>
                  <a:srgbClr val="ff0000"/>
                </a:solidFill>
                <a:latin typeface="Arial"/>
              </a:rPr>
              <a:t>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3"/>
          <p:cNvSpPr/>
          <p:nvPr/>
        </p:nvSpPr>
        <p:spPr>
          <a:xfrm>
            <a:off x="285840" y="0"/>
            <a:ext cx="8431200" cy="51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Термодинамик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спиту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занос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топлот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0000"/>
                </a:solidFill>
                <a:latin typeface="Arial"/>
              </a:rPr>
              <a:t>Спонтанос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знача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гађ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бе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додатни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тица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0000"/>
                </a:solidFill>
                <a:latin typeface="Arial"/>
              </a:rPr>
              <a:t>Ентропија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ер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споређу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змеђу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ато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лекул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ff0000"/>
                </a:solidFill>
                <a:latin typeface="Arial"/>
              </a:rPr>
              <a:t>Слободна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CS" sz="3200" spc="-1" strike="noStrike">
                <a:solidFill>
                  <a:srgbClr val="ff0000"/>
                </a:solidFill>
                <a:latin typeface="Arial"/>
              </a:rPr>
              <a:t>енергија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термодинамичка</a:t>
            </a:r>
            <a:r>
              <a:rPr b="0" lang="sr-RS" sz="3200" spc="-1" strike="noStrike">
                <a:solidFill>
                  <a:srgbClr val="0000ff"/>
                </a:solidFill>
                <a:latin typeface="Arial"/>
              </a:rPr>
              <a:t> величин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која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повезује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енталпију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ентропију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одређујући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ff"/>
                </a:solidFill>
                <a:latin typeface="Arial"/>
              </a:rPr>
              <a:t>спонтаност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обод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вез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стант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равнотеж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с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85880" y="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тандард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молар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тропиј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942984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тандардна моларна ентроп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нтропија једног мола супстанце у стандардним стањим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ff"/>
                </a:solidFill>
                <a:latin typeface="Arial"/>
              </a:rPr>
              <a:t>Стандардно стање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чврсте или течне супстанце,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елементе или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дињењ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 1 at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 одређена температу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298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 гасо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ист гас који има особине идеалног гас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андардна промена ентропије хемијске реакциј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S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Calibri"/>
              </a:rPr>
              <a:t>(</a:t>
            </a:r>
            <a:r>
              <a:rPr b="1" lang="sr-CS" sz="4400" spc="-1" strike="noStrike" baseline="-25000">
                <a:solidFill>
                  <a:srgbClr val="ff0000"/>
                </a:solidFill>
                <a:latin typeface="Calibri"/>
              </a:rPr>
              <a:t>продукти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Calibri"/>
              </a:rPr>
              <a:t> )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en-US" sz="44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4400" spc="-1" strike="noStrike">
                <a:solidFill>
                  <a:srgbClr val="ff0000"/>
                </a:solidFill>
                <a:latin typeface="Calibri"/>
              </a:rPr>
              <a:t> S</a:t>
            </a:r>
            <a:r>
              <a:rPr b="1" lang="en-US" sz="44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Calibri"/>
              </a:rPr>
              <a:t>(</a:t>
            </a:r>
            <a:r>
              <a:rPr b="1" lang="sr-CS" sz="4400" spc="-1" strike="noStrike" baseline="-25000">
                <a:solidFill>
                  <a:srgbClr val="ff0000"/>
                </a:solidFill>
                <a:latin typeface="Calibri"/>
              </a:rPr>
              <a:t>реактанти</a:t>
            </a:r>
            <a:r>
              <a:rPr b="1" lang="en-US" sz="4400" spc="-1" strike="noStrike" baseline="-25000">
                <a:solidFill>
                  <a:srgbClr val="ff0000"/>
                </a:solidFill>
                <a:latin typeface="Calibri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3"/>
          <p:cNvSpPr/>
          <p:nvPr/>
        </p:nvSpPr>
        <p:spPr>
          <a:xfrm>
            <a:off x="533520" y="1371600"/>
            <a:ext cx="783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нтропија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нтропиј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и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нтропија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аравања, енталпија кондензациј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пљења, очвршћавања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бли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нтропиј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ства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нтропиј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емијске реа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трализациј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агоревањ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упституциј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разлагањ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533520" y="3049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ЕНТ</a:t>
            </a: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РОПИЈА  је функција стања јер зависи само од почетног и крајњег стања систе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зрачунавање промене стандардне ентропије (ентропије у стандардним условима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285560"/>
            <a:ext cx="91440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=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alibri"/>
              </a:rPr>
              <a:t>(</a:t>
            </a:r>
            <a:r>
              <a:rPr b="1" lang="sr-CS" sz="3600" spc="-1" strike="noStrike" baseline="-25000">
                <a:solidFill>
                  <a:srgbClr val="ff0000"/>
                </a:solidFill>
                <a:latin typeface="Calibri"/>
              </a:rPr>
              <a:t>продукти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alibri"/>
              </a:rPr>
              <a:t>)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– </a:t>
            </a:r>
            <a:r>
              <a:rPr b="1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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 S</a:t>
            </a:r>
            <a:r>
              <a:rPr b="1" lang="en-US" sz="36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Calibri"/>
              </a:rPr>
              <a:t>(</a:t>
            </a:r>
            <a:r>
              <a:rPr b="1" lang="sr-CS" sz="3600" spc="-1" strike="noStrike" baseline="-25000">
                <a:solidFill>
                  <a:srgbClr val="ff0000"/>
                </a:solidFill>
                <a:latin typeface="Calibri"/>
              </a:rPr>
              <a:t>реактанти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1160" indent="-2811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зрачунати промену ентропије сагоревањ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1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mola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танол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+ 3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(g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2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(g)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+  3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Calibri"/>
              </a:rPr>
              <a:t>(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= [(2) 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+ (3)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] – [ (1) 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5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H + (3)S</a:t>
            </a:r>
            <a:r>
              <a:rPr b="1" lang="en-US" sz="24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]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= [(2mol)213.74J/Kmol) + (3mol)(188.84J/Kmol)]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[(1mol)(282.70J/Kmol) + (3mol)(205.07J/mol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</a:t>
            </a:r>
            <a:r>
              <a:rPr b="1" lang="en-US" sz="2800" spc="-1" strike="noStrike" baseline="30000">
                <a:solidFill>
                  <a:srgbClr val="ff0000"/>
                </a:solidFill>
                <a:latin typeface="Calibri"/>
              </a:rPr>
              <a:t>0 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= 96.09J/molK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00"/>
              </a:spcBef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</a:t>
            </a:r>
            <a:r>
              <a:rPr b="1" lang="sr-CS" sz="2800" spc="-1" strike="noStrike">
                <a:solidFill>
                  <a:srgbClr val="ff0000"/>
                </a:solidFill>
                <a:latin typeface="Calibri"/>
              </a:rPr>
              <a:t>НТРОПИЈА ТОКОМ ОВОГ ПРОЦЕСА РАСТ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0" y="785880"/>
            <a:ext cx="914400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снов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азлог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шт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ек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цес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понтан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нденциј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остигн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м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исте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лаз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иже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нергетско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ањ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нденциј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ећ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еуређеност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ноги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лучајевим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фактор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елују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упротн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ругом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Један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а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руг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аст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рнуто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фактор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000" spc="-1" strike="noStrike" baseline="-18000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en-US" sz="3000" spc="-1" strike="noStrike" baseline="-18000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овлада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еличин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ј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зива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слободн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енергија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000" spc="-1" strike="noStrike" baseline="-18000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511280" y="0"/>
            <a:ext cx="575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Гибсова слободна енер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6760" y="285480"/>
            <a:ext cx="844236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лобод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ергиј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проме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лободн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ерги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-360" y="1357200"/>
            <a:ext cx="957276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а слободне енергије процеса на константном притиску и константној температури је дата Гибсовом једначин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- T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1" i="1" lang="en-US" sz="32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 je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 0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гативно,процес је спонтан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je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gt; 0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зитивно,процес није спонтан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ko je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цес се налази у равнотеж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0" y="1500120"/>
          <a:ext cx="8858160" cy="3565440"/>
        </p:xfrm>
        <a:graphic>
          <a:graphicData uri="http://schemas.openxmlformats.org/drawingml/2006/table">
            <a:tbl>
              <a:tblPr/>
              <a:tblGrid>
                <a:gridCol w="1317600"/>
                <a:gridCol w="1171440"/>
                <a:gridCol w="1536840"/>
                <a:gridCol w="1403280"/>
                <a:gridCol w="3429000"/>
              </a:tblGrid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-Т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ментар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нтан на свим 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 спонтан на свим 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</a:t>
                      </a: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нтан на високим Т, Неспонтан на ниским 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 </a:t>
                      </a: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ли</a:t>
                      </a:r>
                      <a:r>
                        <a:rPr b="0" lang="sr-CS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-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онтан на ниским Т Неспонтан на високим 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41" name="Rectangle 2"/>
          <p:cNvSpPr/>
          <p:nvPr/>
        </p:nvSpPr>
        <p:spPr>
          <a:xfrm>
            <a:off x="679320" y="0"/>
            <a:ext cx="8464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Критеријуми за спонтане промен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: </a:t>
            </a: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- T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4"/>
          <p:cNvSpPr/>
          <p:nvPr/>
        </p:nvSpPr>
        <p:spPr>
          <a:xfrm>
            <a:off x="642960" y="1357200"/>
            <a:ext cx="800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реакциј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(продукти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(реактанти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642960" y="2786040"/>
            <a:ext cx="800100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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реакциј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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 (продукти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–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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(реактанти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6"/>
          <p:cNvSpPr/>
          <p:nvPr/>
        </p:nvSpPr>
        <p:spPr>
          <a:xfrm>
            <a:off x="680400" y="2143080"/>
            <a:ext cx="754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Што је аналогно са Хесовим закон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7"/>
          <p:cNvSpPr/>
          <p:nvPr/>
        </p:nvSpPr>
        <p:spPr>
          <a:xfrm>
            <a:off x="500040" y="0"/>
            <a:ext cx="792972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Проме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р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e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акциј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хемијске реакци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је једнак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2143080" y="5857920"/>
            <a:ext cx="41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i="1" lang="sr-CS" sz="36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= 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36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- T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r>
              <a:rPr b="0" i="1" lang="sr-CS" sz="36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9"/>
          <p:cNvSpPr/>
          <p:nvPr/>
        </p:nvSpPr>
        <p:spPr>
          <a:xfrm>
            <a:off x="428760" y="3786120"/>
            <a:ext cx="8715240" cy="21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Гд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значав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лободну енергију формирањ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 mola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елемена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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30000">
                <a:solidFill>
                  <a:srgbClr val="cc33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нталпиј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формирањ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1 mola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 из елеменат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1"/>
          <p:cNvSpPr/>
          <p:nvPr/>
        </p:nvSpPr>
        <p:spPr>
          <a:xfrm>
            <a:off x="533520" y="1371600"/>
            <a:ext cx="78325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лободна енергија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лободна енергиј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орми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лободна енергиј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аравања, енталпија кондензациј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опљења, очвршћавања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бли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лободна енергија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раствар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лободна енергиј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хемијске реакциј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неутрализације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агоревањ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супституциј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разлагања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………………………………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2"/>
          <p:cNvSpPr/>
          <p:nvPr/>
        </p:nvSpPr>
        <p:spPr>
          <a:xfrm>
            <a:off x="136440" y="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Слободна енергија  је функција стања јер зависи само од почетног и крајњег стања систем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3"/>
          <p:cNvSpPr/>
          <p:nvPr/>
        </p:nvSpPr>
        <p:spPr>
          <a:xfrm>
            <a:off x="571680" y="2000160"/>
            <a:ext cx="81565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рачуна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начин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користећи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</a:rPr>
              <a:t>претходне једначине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) + 5 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)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 NO (g) + 6 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(g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-905.4 kJ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77.9 JK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) = -16.48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g)) =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NO(g)) = 86.57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(g)) = -228.6 kJ/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2228040" y="1143000"/>
            <a:ext cx="334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=  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H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 - T</a:t>
            </a:r>
            <a:r>
              <a:rPr b="0" lang="en-US" sz="36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  <a:ea typeface="Arial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642960" y="285840"/>
            <a:ext cx="80010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реакције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 =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(продукти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– </a:t>
            </a:r>
            <a:r>
              <a:rPr b="0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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G</a:t>
            </a:r>
            <a:r>
              <a:rPr b="0" lang="en-US" sz="3200" spc="-1" strike="noStrike" baseline="30000">
                <a:solidFill>
                  <a:srgbClr val="ff0000"/>
                </a:solidFill>
                <a:latin typeface="Arial"/>
                <a:ea typeface="Arial"/>
              </a:rPr>
              <a:t>0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f</a:t>
            </a:r>
            <a:r>
              <a:rPr b="0" lang="sr-C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(реактанти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56760" y="357120"/>
            <a:ext cx="8402760" cy="87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Промена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слободн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енергиј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при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равнотежи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571760"/>
            <a:ext cx="9144000" cy="389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 равнотежи ј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0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Због тога на равнотежној температур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омена етналпије 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оже изразити на следећи начи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ри станардним условим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T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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 je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важећа једначина з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ључање,топљење,очвршћава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ржњењ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и друге врсте фазних трансформација, итд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_x000b_m18_01l.jpg                                                    0000D080_x000c_Macintosh HD                   ABA78158:"/>
          <p:cNvPicPr/>
          <p:nvPr/>
        </p:nvPicPr>
        <p:blipFill>
          <a:blip r:embed="rId1"/>
          <a:stretch/>
        </p:blipFill>
        <p:spPr>
          <a:xfrm>
            <a:off x="3643200" y="285840"/>
            <a:ext cx="5500800" cy="412416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3"/>
          <p:cNvSpPr/>
          <p:nvPr/>
        </p:nvSpPr>
        <p:spPr>
          <a:xfrm>
            <a:off x="0" y="1222200"/>
            <a:ext cx="6643800" cy="531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Спонтан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проце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гађ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б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ч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гађ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треб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икака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пољашњ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тиц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Н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-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спонтани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  <a:ea typeface="Arial"/>
              </a:rPr>
              <a:t>проце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ож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огод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а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б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це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понт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а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н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верзибил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упрот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е спонта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брну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777240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Спонтан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6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6"/>
          <p:cNvSpPr/>
          <p:nvPr/>
        </p:nvSpPr>
        <p:spPr>
          <a:xfrm>
            <a:off x="7391520" y="5000760"/>
            <a:ext cx="1752480" cy="88560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063de8"/>
              </a:gs>
              <a:gs pos="100000">
                <a:srgbClr val="3864e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7"/>
          <p:cNvSpPr/>
          <p:nvPr/>
        </p:nvSpPr>
        <p:spPr>
          <a:xfrm>
            <a:off x="7391520" y="5643720"/>
            <a:ext cx="1752480" cy="885600"/>
          </a:xfrm>
          <a:prstGeom prst="cube">
            <a:avLst>
              <a:gd name="adj" fmla="val 24995"/>
            </a:avLst>
          </a:prstGeom>
          <a:gradFill rotWithShape="0">
            <a:gsLst>
              <a:gs pos="0">
                <a:srgbClr val="fd4d68"/>
              </a:gs>
              <a:gs pos="100000">
                <a:srgbClr val="fc012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8204400" y="6000840"/>
            <a:ext cx="5774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viš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8403480" y="5214960"/>
            <a:ext cx="578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iž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4"/>
          <p:cNvSpPr/>
          <p:nvPr/>
        </p:nvSpPr>
        <p:spPr>
          <a:xfrm rot="16200000">
            <a:off x="7452360" y="5406120"/>
            <a:ext cx="457200" cy="932040"/>
          </a:xfrm>
          <a:prstGeom prst="rightArrow">
            <a:avLst>
              <a:gd name="adj1" fmla="val 75000"/>
              <a:gd name="adj2" fmla="val 5000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  <a:effectLst>
            <a:outerShdw dist="107932" dir="27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7577640" y="5715000"/>
            <a:ext cx="3369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28760" y="23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Веза између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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G</a:t>
            </a:r>
            <a:r>
              <a:rPr b="0" lang="en-US" sz="3600" spc="-1" strike="noStrike" baseline="30000">
                <a:solidFill>
                  <a:srgbClr val="ff0000"/>
                </a:solidFill>
                <a:latin typeface="Arial"/>
              </a:rPr>
              <a:t>o</a:t>
            </a:r>
            <a:r>
              <a:rPr b="0" lang="sr-CS" sz="3600" spc="-1" strike="noStrike" baseline="30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ff0000"/>
                </a:solidFill>
                <a:latin typeface="Arial"/>
              </a:rPr>
              <a:t>и константе равнотеже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K</a:t>
            </a:r>
            <a:r>
              <a:rPr b="0" lang="en-US" sz="3600" spc="-1" strike="noStrike" baseline="-18000">
                <a:solidFill>
                  <a:srgbClr val="ff0000"/>
                </a:solidFill>
                <a:latin typeface="Arial"/>
              </a:rPr>
              <a:t>eq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3"/>
          <p:cNvSpPr/>
          <p:nvPr/>
        </p:nvSpPr>
        <p:spPr>
          <a:xfrm>
            <a:off x="2258280" y="621180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=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+ RT ln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84088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лободна енергија хемијске реакције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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642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посматрамо  повратну, реверзибилну хемијску хемијску реакцију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2"/>
              <p:cNvSpPr txBox="1"/>
              <p:nvPr/>
            </p:nvSpPr>
            <p:spPr>
              <a:xfrm>
                <a:off x="2357280" y="1571760"/>
                <a:ext cx="375948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A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bB </m:t>
                    </m:r>
                    <m:m>
                      <m:mr>
                        <m:e>
                          <m:r>
                            <m:t xml:space="preserve">→</m:t>
                          </m:r>
                        </m:e>
                      </m:mr>
                      <m:mr>
                        <m:e>
                          <m:r>
                            <m:t xml:space="preserve">←</m:t>
                          </m:r>
                        </m:e>
                      </m:mr>
                    </m:m>
                    <m:r>
                      <m:rPr>
                        <m:lit/>
                        <m:nor/>
                      </m:rPr>
                      <m:t xml:space="preserve"> cC 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d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Rectangle 7"/>
          <p:cNvSpPr/>
          <p:nvPr/>
        </p:nvSpPr>
        <p:spPr>
          <a:xfrm>
            <a:off x="285840" y="2357280"/>
            <a:ext cx="8858160" cy="37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мена стандардне слободне енергије реакције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одговара стањима када се сви реактанти и продукти налазе у својим стандардним стањима, то јест имају притисак од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1 at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ли концентрације су све концентраци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mol/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Ако реакција тече концентрације и реактаната и продуката се мењају и не могу бити једна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 mol/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о је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ко: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3"/>
          <p:cNvSpPr/>
          <p:nvPr/>
        </p:nvSpPr>
        <p:spPr>
          <a:xfrm>
            <a:off x="1686600" y="2000160"/>
            <a:ext cx="436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 = </a:t>
            </a: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+ RT ln 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3000240"/>
            <a:ext cx="435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 промена слободне енергије при стандардним услов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85840" y="4611600"/>
            <a:ext cx="8858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они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ни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Q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ћ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днос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ук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та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дигнут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п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хиометриј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ефицијен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с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тходн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хемијско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начи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5429160" y="3000240"/>
                <a:ext cx="3071880" cy="160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Left Arrow 7"/>
          <p:cNvSpPr/>
          <p:nvPr/>
        </p:nvSpPr>
        <p:spPr>
          <a:xfrm rot="16200000">
            <a:off x="3000240" y="2642760"/>
            <a:ext cx="78588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eft Arrow 8"/>
          <p:cNvSpPr/>
          <p:nvPr/>
        </p:nvSpPr>
        <p:spPr>
          <a:xfrm rot="16200000">
            <a:off x="5143320" y="2642760"/>
            <a:ext cx="785880" cy="64296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0" y="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лободна енергија мора изразити тако да обухвати промену слободне енергије у стандардном стањ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 промену слободне енергије </a:t>
            </a:r>
            <a:r>
              <a:rPr b="1" lang="el-GR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G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бог тога што тече хемијска реакц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5929200" y="1428840"/>
            <a:ext cx="321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цион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лични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бил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сл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У равнотежи ће </a:t>
            </a:r>
            <a:r>
              <a:rPr b="1" lang="el-GR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G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=0, па ће 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Q = 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К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CS" sz="4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ледити: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3071880" y="15717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Δ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G° </a:t>
            </a:r>
            <a:r>
              <a:rPr b="1" lang="sr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=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-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RT ln </a:t>
            </a:r>
            <a:r>
              <a:rPr b="1" lang="sr-Latn-CS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3286080" y="2286000"/>
                <a:ext cx="2451240" cy="12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C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c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d</m:t>
                            </m:r>
                          </m:sup>
                        </m:sSup>
                      </m:num>
                      <m:den>
                        <m:r>
                          <m:t xml:space="preserve">[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a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B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b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" name="Rectangle 5"/>
          <p:cNvSpPr/>
          <p:nvPr/>
        </p:nvSpPr>
        <p:spPr>
          <a:xfrm>
            <a:off x="428760" y="3714840"/>
            <a:ext cx="8001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Где је К константа равнотеже и представља одн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извод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нцентраци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одук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актана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дигнут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п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едстављ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техиометријск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оефицијен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а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врст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 успостављаној равнотеж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3" name=""/>
          <p:cNvGraphicFramePr/>
          <p:nvPr/>
        </p:nvGraphicFramePr>
        <p:xfrm>
          <a:off x="500040" y="1571760"/>
          <a:ext cx="7929720" cy="4724280"/>
        </p:xfrm>
        <a:graphic>
          <a:graphicData uri="http://schemas.openxmlformats.org/drawingml/2006/table">
            <a:tbl>
              <a:tblPr/>
              <a:tblGrid>
                <a:gridCol w="712800"/>
                <a:gridCol w="7216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гзотермна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g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а свим температурам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гзотермна  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g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гађа се ако је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&lt;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ндотермна  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g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догађа се ако је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&gt;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/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о је реакција ендотермна (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H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gt;0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)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sr-Latn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&lt; 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&lt;0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и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K&lt;1 </a:t>
                      </a:r>
                      <a:r>
                        <a:rPr b="1" lang="sr-CS" sz="28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ни на једној температури није спонтан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74" name="Rectangle 5"/>
          <p:cNvSpPr/>
          <p:nvPr/>
        </p:nvSpPr>
        <p:spPr>
          <a:xfrm>
            <a:off x="1214280" y="285840"/>
            <a:ext cx="6429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ермодинамички критеријуми спонта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457200" y="1447920"/>
            <a:ext cx="84978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 константу равнотеже за једначин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[Ag(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[Ag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] [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]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371600"/>
                <a:tab algn="l" pos="2227320"/>
                <a:tab algn="l" pos="2228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914400" y="2000160"/>
            <a:ext cx="8229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Ag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 + 2 NH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            Ag(NH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3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Group 7"/>
          <p:cNvGrpSpPr/>
          <p:nvPr/>
        </p:nvGrpSpPr>
        <p:grpSpPr>
          <a:xfrm>
            <a:off x="5143320" y="2286000"/>
            <a:ext cx="609840" cy="152280"/>
            <a:chOff x="5143320" y="2286000"/>
            <a:chExt cx="609840" cy="152280"/>
          </a:xfrm>
        </p:grpSpPr>
        <p:sp>
          <p:nvSpPr>
            <p:cNvPr id="178" name="Line 8"/>
            <p:cNvSpPr/>
            <p:nvPr/>
          </p:nvSpPr>
          <p:spPr>
            <a:xfrm>
              <a:off x="5143680" y="228600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9"/>
            <p:cNvSpPr/>
            <p:nvPr/>
          </p:nvSpPr>
          <p:spPr>
            <a:xfrm flipH="1">
              <a:off x="5143320" y="24382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Line 8"/>
          <p:cNvSpPr/>
          <p:nvPr/>
        </p:nvSpPr>
        <p:spPr>
          <a:xfrm>
            <a:off x="2714760" y="4357800"/>
            <a:ext cx="1981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3"/>
          <p:cNvSpPr/>
          <p:nvPr/>
        </p:nvSpPr>
        <p:spPr>
          <a:xfrm>
            <a:off x="457200" y="1447920"/>
            <a:ext cx="84978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 константу равнотеже за реа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Cd</a:t>
            </a:r>
            <a:r>
              <a:rPr b="0" lang="en-US" sz="3200" spc="-1" strike="noStrike" baseline="30000">
                <a:solidFill>
                  <a:srgbClr val="800080"/>
                </a:solidFill>
                <a:latin typeface="Calibri"/>
                <a:ea typeface="Arial"/>
              </a:rPr>
              <a:t>2+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aq) + 4 Br</a:t>
            </a:r>
            <a:r>
              <a:rPr b="0" lang="en-US" sz="3200" spc="-1" strike="noStrike" baseline="30000">
                <a:solidFill>
                  <a:srgbClr val="800080"/>
                </a:solidFill>
                <a:latin typeface="Calibri"/>
                <a:ea typeface="Arial"/>
              </a:rPr>
              <a:t>-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aq)          CdBr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4</a:t>
            </a:r>
            <a:r>
              <a:rPr b="0" lang="en-US" sz="3200" spc="-1" strike="noStrike" baseline="30000">
                <a:solidFill>
                  <a:srgbClr val="800080"/>
                </a:solidFill>
                <a:latin typeface="Calibri"/>
                <a:ea typeface="Arial"/>
              </a:rPr>
              <a:t>2-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aq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838080" y="4191120"/>
            <a:ext cx="739152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c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= [CdBr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2-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[Cd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2+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] [Br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-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]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4"/>
          <p:cNvSpPr/>
          <p:nvPr/>
        </p:nvSpPr>
        <p:spPr>
          <a:xfrm>
            <a:off x="5072040" y="2857680"/>
            <a:ext cx="60948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5"/>
          <p:cNvSpPr/>
          <p:nvPr/>
        </p:nvSpPr>
        <p:spPr>
          <a:xfrm flipH="1">
            <a:off x="5071680" y="3000240"/>
            <a:ext cx="60948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>
            <a:off x="1676520" y="4800600"/>
            <a:ext cx="1981080" cy="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3"/>
          <p:cNvSpPr/>
          <p:nvPr/>
        </p:nvSpPr>
        <p:spPr>
          <a:xfrm>
            <a:off x="214200" y="285840"/>
            <a:ext cx="8498160" cy="20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0080"/>
                </a:solidFill>
                <a:latin typeface="Calibri"/>
              </a:rPr>
              <a:t>Пример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: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Изразити константу равнотеже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 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за следећу реакцију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CH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4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 (g) + 2 H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S (g)             CS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 (g) + 4 H</a:t>
            </a:r>
            <a:r>
              <a:rPr b="0" lang="en-US" sz="3000" spc="-1" strike="noStrike" baseline="-25000">
                <a:solidFill>
                  <a:srgbClr val="80008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800080"/>
                </a:solidFill>
                <a:latin typeface="Calibri"/>
              </a:rPr>
              <a:t> (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838080" y="3657600"/>
            <a:ext cx="4572000" cy="12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S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85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H4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 (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2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1828800" y="42670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7"/>
          <p:cNvGrpSpPr/>
          <p:nvPr/>
        </p:nvGrpSpPr>
        <p:grpSpPr>
          <a:xfrm>
            <a:off x="3357360" y="1857240"/>
            <a:ext cx="609840" cy="152280"/>
            <a:chOff x="3357360" y="1857240"/>
            <a:chExt cx="609840" cy="152280"/>
          </a:xfrm>
        </p:grpSpPr>
        <p:sp>
          <p:nvSpPr>
            <p:cNvPr id="190" name="Line 8"/>
            <p:cNvSpPr/>
            <p:nvPr/>
          </p:nvSpPr>
          <p:spPr>
            <a:xfrm>
              <a:off x="3357720" y="185724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Line 9"/>
            <p:cNvSpPr/>
            <p:nvPr/>
          </p:nvSpPr>
          <p:spPr>
            <a:xfrm flipH="1">
              <a:off x="3357360" y="200952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3"/>
          <p:cNvSpPr/>
          <p:nvPr/>
        </p:nvSpPr>
        <p:spPr>
          <a:xfrm>
            <a:off x="0" y="285840"/>
            <a:ext cx="84978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 константу равнотеже за реа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CO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g) + H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 (g)       CO (g) + H</a:t>
            </a:r>
            <a:r>
              <a:rPr b="0" lang="en-US" sz="3200" spc="-1" strike="noStrike" baseline="-25000">
                <a:solidFill>
                  <a:srgbClr val="80008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800080"/>
                </a:solidFill>
                <a:latin typeface="Calibri"/>
                <a:ea typeface="Arial"/>
              </a:rPr>
              <a:t>O (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Ако чврста или течна супстанца учествују у хетерогеном равнотежном процесу оне се не уносе у израз за константу равноте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7"/>
          <p:cNvGrpSpPr/>
          <p:nvPr/>
        </p:nvGrpSpPr>
        <p:grpSpPr>
          <a:xfrm>
            <a:off x="3857400" y="1714680"/>
            <a:ext cx="609840" cy="152280"/>
            <a:chOff x="3857400" y="1714680"/>
            <a:chExt cx="609840" cy="152280"/>
          </a:xfrm>
        </p:grpSpPr>
        <p:sp>
          <p:nvSpPr>
            <p:cNvPr id="194" name="Line 8"/>
            <p:cNvSpPr/>
            <p:nvPr/>
          </p:nvSpPr>
          <p:spPr>
            <a:xfrm>
              <a:off x="3857760" y="17146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9"/>
            <p:cNvSpPr/>
            <p:nvPr/>
          </p:nvSpPr>
          <p:spPr>
            <a:xfrm flipH="1">
              <a:off x="3857400" y="186696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3"/>
          <p:cNvSpPr/>
          <p:nvPr/>
        </p:nvSpPr>
        <p:spPr>
          <a:xfrm>
            <a:off x="357120" y="857160"/>
            <a:ext cx="849780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Ако чврста или течна супстанца учествују у хетерогеном равнотежном процесу оне се не уносе у израз за константу равнотеж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онстанта равнотеже којом се изражава производ растворљивости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(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s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означава равнотежу која се успоставља између нерастворене чврсте фазе и њених хидратисаних јона у раствору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За растварање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CaF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aF</a:t>
            </a:r>
            <a:r>
              <a:rPr b="0" lang="en-US" sz="29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(s)        Ca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(aq) + 2 F</a:t>
            </a:r>
            <a:r>
              <a:rPr b="0" lang="en-US" sz="29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 (aq)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sp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= [C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+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] [F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4"/>
          <p:cNvSpPr/>
          <p:nvPr/>
        </p:nvSpPr>
        <p:spPr>
          <a:xfrm>
            <a:off x="3500280" y="4062240"/>
            <a:ext cx="5335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5"/>
          <p:cNvSpPr/>
          <p:nvPr/>
        </p:nvSpPr>
        <p:spPr>
          <a:xfrm flipH="1">
            <a:off x="3500280" y="4214880"/>
            <a:ext cx="533520" cy="0"/>
          </a:xfrm>
          <a:prstGeom prst="line">
            <a:avLst/>
          </a:prstGeom>
          <a:ln w="3816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38188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Примери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неких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спонтаних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0000"/>
                </a:solidFill>
                <a:latin typeface="Arial"/>
              </a:rPr>
              <a:t>проце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0" y="642960"/>
            <a:ext cx="385776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и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уд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јо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аку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1028" descr="FG17_02ab"/>
          <p:cNvPicPr/>
          <p:nvPr/>
        </p:nvPicPr>
        <p:blipFill>
          <a:blip r:embed="rId1"/>
          <a:stretch/>
        </p:blipFill>
        <p:spPr>
          <a:xfrm>
            <a:off x="0" y="2500200"/>
            <a:ext cx="2928960" cy="18068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026"/>
          <p:cNvSpPr/>
          <p:nvPr/>
        </p:nvSpPr>
        <p:spPr>
          <a:xfrm>
            <a:off x="571680" y="1857240"/>
            <a:ext cx="31431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шањ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ас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028" descr="FG17_03"/>
          <p:cNvPicPr/>
          <p:nvPr/>
        </p:nvPicPr>
        <p:blipFill>
          <a:blip r:embed="rId2"/>
          <a:stretch/>
        </p:blipFill>
        <p:spPr>
          <a:xfrm>
            <a:off x="5072040" y="2357280"/>
            <a:ext cx="3357720" cy="19796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1"/>
          <p:cNvGrpSpPr/>
          <p:nvPr/>
        </p:nvGrpSpPr>
        <p:grpSpPr>
          <a:xfrm>
            <a:off x="3571920" y="500040"/>
            <a:ext cx="5572080" cy="1857240"/>
            <a:chOff x="3571920" y="500040"/>
            <a:chExt cx="5572080" cy="1857240"/>
          </a:xfrm>
        </p:grpSpPr>
        <p:grpSp>
          <p:nvGrpSpPr>
            <p:cNvPr id="68" name="Group 10"/>
            <p:cNvGrpSpPr/>
            <p:nvPr/>
          </p:nvGrpSpPr>
          <p:grpSpPr>
            <a:xfrm>
              <a:off x="4005000" y="500040"/>
              <a:ext cx="5139000" cy="1368720"/>
              <a:chOff x="4005000" y="500040"/>
              <a:chExt cx="5139000" cy="1368720"/>
            </a:xfrm>
          </p:grpSpPr>
          <p:pic>
            <p:nvPicPr>
              <p:cNvPr id="69" name="Picture 3" descr="d:\chapt20\color_art_library\20_03.jpg"/>
              <p:cNvPicPr/>
              <p:nvPr/>
            </p:nvPicPr>
            <p:blipFill>
              <a:blip r:embed="rId3"/>
              <a:stretch/>
            </p:blipFill>
            <p:spPr>
              <a:xfrm>
                <a:off x="4111920" y="500040"/>
                <a:ext cx="5032080" cy="114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" name="TextBox 4"/>
              <p:cNvSpPr/>
              <p:nvPr/>
            </p:nvSpPr>
            <p:spPr>
              <a:xfrm>
                <a:off x="4005000" y="1500480"/>
                <a:ext cx="8161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 atm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TextBox 5"/>
              <p:cNvSpPr/>
              <p:nvPr/>
            </p:nvSpPr>
            <p:spPr>
              <a:xfrm>
                <a:off x="5720040" y="1500480"/>
                <a:ext cx="9597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C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Вакум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TextBox 6"/>
              <p:cNvSpPr/>
              <p:nvPr/>
            </p:nvSpPr>
            <p:spPr>
              <a:xfrm>
                <a:off x="6791760" y="1500480"/>
                <a:ext cx="1006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 atm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TextBox 7"/>
              <p:cNvSpPr/>
              <p:nvPr/>
            </p:nvSpPr>
            <p:spPr>
              <a:xfrm>
                <a:off x="8132040" y="1500480"/>
                <a:ext cx="100656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0.5 atm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" name="Rectangle 1026"/>
            <p:cNvSpPr/>
            <p:nvPr/>
          </p:nvSpPr>
          <p:spPr>
            <a:xfrm>
              <a:off x="3571920" y="1928880"/>
              <a:ext cx="557208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3.</a:t>
              </a:r>
              <a:r>
                <a:rPr b="0" lang="sr-CS" sz="2800" spc="-1" strike="noStrike">
                  <a:solidFill>
                    <a:srgbClr val="000000"/>
                  </a:solidFill>
                  <a:latin typeface="Calibri"/>
                </a:rPr>
                <a:t>Прављење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sr-CS" sz="2800" spc="-1" strike="noStrike">
                  <a:solidFill>
                    <a:srgbClr val="000000"/>
                  </a:solidFill>
                  <a:latin typeface="Calibri"/>
                </a:rPr>
                <a:t>идеалног</a:t>
              </a: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0" lang="sr-CS" sz="2800" spc="-1" strike="noStrike">
                  <a:solidFill>
                    <a:srgbClr val="000000"/>
                  </a:solidFill>
                  <a:latin typeface="Calibri"/>
                </a:rPr>
                <a:t>раствор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Rectangle 3"/>
          <p:cNvSpPr/>
          <p:nvPr/>
        </p:nvSpPr>
        <p:spPr>
          <a:xfrm>
            <a:off x="0" y="5084640"/>
            <a:ext cx="9144000" cy="18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ш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а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в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чност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еша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ша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с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без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промен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ff0000"/>
                </a:solidFill>
                <a:latin typeface="Arial"/>
              </a:rPr>
              <a:t>енталпиј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истему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4"/>
          <p:cNvSpPr/>
          <p:nvPr/>
        </p:nvSpPr>
        <p:spPr>
          <a:xfrm>
            <a:off x="2928960" y="2428920"/>
            <a:ext cx="335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ас А се спонтано диспергује у гасу 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5"/>
          <p:cNvSpPr/>
          <p:nvPr/>
        </p:nvSpPr>
        <p:spPr>
          <a:xfrm>
            <a:off x="3071880" y="3429000"/>
            <a:ext cx="242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лекули А  и Б се спонтано диспергују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0" y="214200"/>
            <a:ext cx="9144000" cy="14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Изразит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онстант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внотеж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з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еакциј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кад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чвст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со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ствар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јући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раствор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одговарајућ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хидратиса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јон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714240" y="17859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Ag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CrO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s)          2 Ag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 + CrO</a:t>
            </a:r>
            <a:r>
              <a:rPr b="1" lang="en-US" sz="2800" spc="-1" strike="noStrike" baseline="-25000">
                <a:solidFill>
                  <a:srgbClr val="80008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 baseline="30000">
                <a:solidFill>
                  <a:srgbClr val="800080"/>
                </a:solidFill>
                <a:latin typeface="Arial"/>
                <a:ea typeface="Arial"/>
              </a:rPr>
              <a:t>2-</a:t>
            </a:r>
            <a:r>
              <a:rPr b="1" lang="en-US" sz="2800" spc="-1" strike="noStrike">
                <a:solidFill>
                  <a:srgbClr val="800080"/>
                </a:solidFill>
                <a:latin typeface="Arial"/>
                <a:ea typeface="Arial"/>
              </a:rPr>
              <a:t> (a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5"/>
          <p:cNvSpPr/>
          <p:nvPr/>
        </p:nvSpPr>
        <p:spPr>
          <a:xfrm>
            <a:off x="2500200" y="3143160"/>
            <a:ext cx="381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=  [Ag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[Cr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7"/>
          <p:cNvGrpSpPr/>
          <p:nvPr/>
        </p:nvGrpSpPr>
        <p:grpSpPr>
          <a:xfrm>
            <a:off x="3285720" y="1928880"/>
            <a:ext cx="609840" cy="152280"/>
            <a:chOff x="3285720" y="1928880"/>
            <a:chExt cx="609840" cy="152280"/>
          </a:xfrm>
        </p:grpSpPr>
        <p:sp>
          <p:nvSpPr>
            <p:cNvPr id="203" name="Line 8"/>
            <p:cNvSpPr/>
            <p:nvPr/>
          </p:nvSpPr>
          <p:spPr>
            <a:xfrm>
              <a:off x="3286080" y="19288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9"/>
            <p:cNvSpPr/>
            <p:nvPr/>
          </p:nvSpPr>
          <p:spPr>
            <a:xfrm flipH="1">
              <a:off x="3285720" y="208116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380880" y="1447920"/>
            <a:ext cx="8498160" cy="46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Када ј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K &gt; 1,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 у равнотежи има више продуката него реактаната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CO (g) + 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g)         CO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(g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CO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] = 4.57 x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9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[CO] [Cl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2914560"/>
                <a:tab algn="l" pos="3772080"/>
                <a:tab algn="l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Calibri"/>
                <a:ea typeface="Arial"/>
              </a:rPr>
              <a:t>фаворизовано је настајање продукат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2"/>
          <p:cNvSpPr/>
          <p:nvPr/>
        </p:nvSpPr>
        <p:spPr>
          <a:xfrm>
            <a:off x="4214880" y="4429080"/>
            <a:ext cx="1752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7"/>
          <p:cNvGrpSpPr/>
          <p:nvPr/>
        </p:nvGrpSpPr>
        <p:grpSpPr>
          <a:xfrm>
            <a:off x="4876560" y="2971800"/>
            <a:ext cx="609840" cy="152280"/>
            <a:chOff x="4876560" y="2971800"/>
            <a:chExt cx="609840" cy="152280"/>
          </a:xfrm>
        </p:grpSpPr>
        <p:sp>
          <p:nvSpPr>
            <p:cNvPr id="208" name="Line 8"/>
            <p:cNvSpPr/>
            <p:nvPr/>
          </p:nvSpPr>
          <p:spPr>
            <a:xfrm>
              <a:off x="4876920" y="297180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Line 9"/>
            <p:cNvSpPr/>
            <p:nvPr/>
          </p:nvSpPr>
          <p:spPr>
            <a:xfrm flipH="1">
              <a:off x="4876560" y="312408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3"/>
          <p:cNvSpPr/>
          <p:nvPr/>
        </p:nvSpPr>
        <p:spPr>
          <a:xfrm>
            <a:off x="457200" y="1447920"/>
            <a:ext cx="8497800" cy="19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Да ли је у овом случају фаворизовано настајање реактаната или продуката реакциј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(g) + 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(g)         2 HI (g)    K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 = 50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7"/>
          <p:cNvGrpSpPr/>
          <p:nvPr/>
        </p:nvGrpSpPr>
        <p:grpSpPr>
          <a:xfrm>
            <a:off x="3857400" y="2786040"/>
            <a:ext cx="609840" cy="152280"/>
            <a:chOff x="3857400" y="2786040"/>
            <a:chExt cx="609840" cy="152280"/>
          </a:xfrm>
        </p:grpSpPr>
        <p:sp>
          <p:nvSpPr>
            <p:cNvPr id="212" name="Line 8"/>
            <p:cNvSpPr/>
            <p:nvPr/>
          </p:nvSpPr>
          <p:spPr>
            <a:xfrm>
              <a:off x="3857760" y="278604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9"/>
            <p:cNvSpPr/>
            <p:nvPr/>
          </p:nvSpPr>
          <p:spPr>
            <a:xfrm flipH="1">
              <a:off x="3857400" y="2938320"/>
              <a:ext cx="609480" cy="0"/>
            </a:xfrm>
            <a:prstGeom prst="line">
              <a:avLst/>
            </a:prstGeom>
            <a:ln w="381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3"/>
          <p:cNvSpPr/>
          <p:nvPr/>
        </p:nvSpPr>
        <p:spPr>
          <a:xfrm>
            <a:off x="539640" y="981000"/>
            <a:ext cx="82803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Мешање две течности између чијих молекула нема интеракције (идеални раствори) је спонтан процес и није реверзибила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Супротан проце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, раздвајање на две течности неће бити могућ, процес је неспонтан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FG17_01"/>
          <p:cNvPicPr/>
          <p:nvPr/>
        </p:nvPicPr>
        <p:blipFill>
          <a:blip r:embed="rId1"/>
          <a:stretch/>
        </p:blipFill>
        <p:spPr>
          <a:xfrm>
            <a:off x="0" y="0"/>
            <a:ext cx="9144000" cy="5510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0" y="4429080"/>
            <a:ext cx="44290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стај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о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исеони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гзотерм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4643280" y="4429080"/>
            <a:ext cx="45007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спаравањ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о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 и притис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о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0.3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m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понт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ендотерма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214800" y="0"/>
            <a:ext cx="314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о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еч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иши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во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м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иж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5643720" y="1857240"/>
            <a:ext cx="3500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Лед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оп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на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собној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температур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атмосферском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притиску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9"/>
          <p:cNvSpPr/>
          <p:nvPr/>
        </p:nvSpPr>
        <p:spPr>
          <a:xfrm>
            <a:off x="6500880" y="642960"/>
            <a:ext cx="20001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traight Connector 13"/>
          <p:cNvSpPr/>
          <p:nvPr/>
        </p:nvSpPr>
        <p:spPr>
          <a:xfrm>
            <a:off x="6500880" y="1500120"/>
            <a:ext cx="200016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7358040" y="178596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7010280" y="1500120"/>
            <a:ext cx="2133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(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Straight Arrow Connector 17"/>
          <p:cNvCxnSpPr/>
          <p:nvPr/>
        </p:nvCxnSpPr>
        <p:spPr>
          <a:xfrm flipV="1">
            <a:off x="6786720" y="644040"/>
            <a:ext cx="2160" cy="8582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9" name="Text Box 12"/>
          <p:cNvSpPr/>
          <p:nvPr/>
        </p:nvSpPr>
        <p:spPr>
          <a:xfrm>
            <a:off x="6572160" y="71280"/>
            <a:ext cx="2133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O(l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4"/>
          <p:cNvSpPr/>
          <p:nvPr/>
        </p:nvSpPr>
        <p:spPr>
          <a:xfrm>
            <a:off x="5919840" y="928800"/>
            <a:ext cx="322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 = + 6.01 kJ mo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4"/>
          <p:cNvSpPr/>
          <p:nvPr/>
        </p:nvSpPr>
        <p:spPr>
          <a:xfrm>
            <a:off x="0" y="2071800"/>
            <a:ext cx="3224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 =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86 kJ mo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4"/>
          <p:cNvSpPr/>
          <p:nvPr/>
        </p:nvSpPr>
        <p:spPr>
          <a:xfrm>
            <a:off x="6143760" y="3571920"/>
            <a:ext cx="250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 = +44 kJ mol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0" y="57862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У неким спонтаним процесима долази до промене енталпије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3"/>
          <p:cNvSpPr/>
          <p:nvPr/>
        </p:nvSpPr>
        <p:spPr>
          <a:xfrm>
            <a:off x="2571840" y="1071720"/>
            <a:ext cx="185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Arial"/>
              </a:rPr>
              <a:t>Спонтани проце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wn Arrow 24"/>
          <p:cNvSpPr/>
          <p:nvPr/>
        </p:nvSpPr>
        <p:spPr>
          <a:xfrm>
            <a:off x="4286160" y="2071800"/>
            <a:ext cx="214560" cy="3857400"/>
          </a:xfrm>
          <a:prstGeom prst="downArrow">
            <a:avLst>
              <a:gd name="adj1" fmla="val 50000"/>
              <a:gd name="adj2" fmla="val 49939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Down Arrow 25"/>
          <p:cNvSpPr/>
          <p:nvPr/>
        </p:nvSpPr>
        <p:spPr>
          <a:xfrm rot="15039000">
            <a:off x="5280840" y="718200"/>
            <a:ext cx="156960" cy="1917720"/>
          </a:xfrm>
          <a:prstGeom prst="downArrow">
            <a:avLst>
              <a:gd name="adj1" fmla="val 50000"/>
              <a:gd name="adj2" fmla="val 50059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1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Down Arrow 26"/>
          <p:cNvSpPr/>
          <p:nvPr/>
        </p:nvSpPr>
        <p:spPr>
          <a:xfrm flipH="1" rot="2385000">
            <a:off x="3470400" y="1715760"/>
            <a:ext cx="220680" cy="2451240"/>
          </a:xfrm>
          <a:prstGeom prst="downArrow">
            <a:avLst>
              <a:gd name="adj1" fmla="val 50000"/>
              <a:gd name="adj2" fmla="val 49984"/>
            </a:avLst>
          </a:prstGeom>
          <a:gradFill rotWithShape="0">
            <a:gsLst>
              <a:gs pos="0">
                <a:srgbClr val="ff8080"/>
              </a:gs>
              <a:gs pos="100000">
                <a:srgbClr val="ffdada"/>
              </a:gs>
            </a:gsLst>
            <a:lin ang="1858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Down Arrow 27"/>
          <p:cNvSpPr/>
          <p:nvPr/>
        </p:nvSpPr>
        <p:spPr>
          <a:xfrm rot="19626600">
            <a:off x="4950000" y="1784160"/>
            <a:ext cx="206280" cy="2504880"/>
          </a:xfrm>
          <a:prstGeom prst="downArrow">
            <a:avLst>
              <a:gd name="adj1" fmla="val 50000"/>
              <a:gd name="adj2" fmla="val 50034"/>
            </a:avLst>
          </a:prstGeom>
          <a:gradFill rotWithShape="0">
            <a:gsLst>
              <a:gs pos="0">
                <a:srgbClr val="ff8880"/>
              </a:gs>
              <a:gs pos="100000">
                <a:srgbClr val="ffdcda"/>
              </a:gs>
            </a:gsLst>
            <a:lin ang="181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3"/>
          <p:cNvSpPr/>
          <p:nvPr/>
        </p:nvSpPr>
        <p:spPr>
          <a:xfrm>
            <a:off x="250920" y="836640"/>
            <a:ext cx="88930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На основу првог закона термодинамике није могуће објаснити зашто је неки процес спонтан а неки не и у ком правцу ће тећи. Те особине материје и енергије дефинише други закон термодинами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Један од узрока спонтаности неког процеса је тенденција система да спонтано диспергује материју и енергиј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58920" y="163440"/>
            <a:ext cx="8569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ра дисперговања енергије или материје се у термодинамици назива ентропија, означава се са S, а промена при прелазу из једног стања у друго стање система се означава као и код  других термодинамичких функција стања са </a:t>
            </a:r>
            <a:r>
              <a:rPr b="0" lang="sr-Latn-R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558720" y="479736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Ентропиј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је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термодинамич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величин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кој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представља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меру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уређености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неког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0000"/>
                </a:solidFill>
                <a:latin typeface="Arial"/>
              </a:rPr>
              <a:t>систе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3"/>
          <p:cNvSpPr/>
          <p:nvPr/>
        </p:nvSpPr>
        <p:spPr>
          <a:xfrm>
            <a:off x="250920" y="254160"/>
            <a:ext cx="889308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тропија је мера за дисперзију енергије или материје.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да долази до дисперзије било материје или енергије ентропија раст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ада долази до преноса толпоте са топлијег тела на хладн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 то</a:t>
            </a:r>
            <a:r>
              <a:rPr b="0" lang="sr-RS" sz="2800" spc="-1" strike="noStrike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ијем телу ће дисперзија енергије опадати па ће промена ентропије која карактерише ову промену бити :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olplog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&lt; 0,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у хладнијем телу чија је температура порасла јер је пренета одређена количина топлоте ће промена ентропије бити позитивна јер је дисперзија енергије порасла : 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ladno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&gt; 0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промена ентропије топлијег тела ће бити мања од промене ентропије хладнијег тел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|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toplog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|&lt; |</a:t>
            </a:r>
            <a:r>
              <a:rPr b="0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hladnog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  <a:ea typeface="Arial"/>
              </a:rPr>
              <a:t>|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04:55:35Z</dcterms:created>
  <dc:creator>Vera Dondur</dc:creator>
  <dc:description/>
  <dc:language>en-US</dc:language>
  <cp:lastModifiedBy>Snezana Jovanovic</cp:lastModifiedBy>
  <dcterms:modified xsi:type="dcterms:W3CDTF">2023-10-12T19:40:21Z</dcterms:modified>
  <cp:revision>118</cp:revision>
  <dc:subject/>
  <dc:title>Termodinamika  Spontanost, Entropija,  Slobodna energija, Konstanta ravnoeže</dc:title>
</cp:coreProperties>
</file>